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.gif" ContentType="image/gif"/>
  <Override PartName="/ppt/media/image13.wmf" ContentType="image/x-wmf"/>
  <Override PartName="/ppt/media/image17.wmf" ContentType="image/x-wmf"/>
  <Override PartName="/ppt/media/image9.png" ContentType="image/png"/>
  <Override PartName="/ppt/media/image29.png" ContentType="image/png"/>
  <Override PartName="/ppt/media/image6.gif" ContentType="image/gif"/>
  <Override PartName="/ppt/media/image5.gif" ContentType="image/gif"/>
  <Override PartName="/ppt/media/image30.gif" ContentType="image/gif"/>
  <Override PartName="/ppt/media/image8.wmf" ContentType="image/x-wmf"/>
  <Override PartName="/ppt/media/image10.gif" ContentType="image/gif"/>
  <Override PartName="/ppt/media/image7.wmf" ContentType="image/x-wmf"/>
  <Override PartName="/ppt/media/image23.gif" ContentType="image/gif"/>
  <Override PartName="/ppt/media/image11.wmf" ContentType="image/x-wmf"/>
  <Override PartName="/ppt/media/image1.jpeg" ContentType="image/jpeg"/>
  <Override PartName="/ppt/media/image15.wmf" ContentType="image/x-wmf"/>
  <Override PartName="/ppt/media/image27.gif" ContentType="image/gif"/>
  <Override PartName="/ppt/media/image4.wmf" ContentType="image/x-wmf"/>
  <Override PartName="/ppt/media/image14.gif" ContentType="image/gif"/>
  <Override PartName="/ppt/media/image12.wmf" ContentType="image/x-wmf"/>
  <Override PartName="/ppt/media/image16.gif" ContentType="image/gif"/>
  <Override PartName="/ppt/media/image18.gif" ContentType="image/gif"/>
  <Override PartName="/ppt/media/image19.wmf" ContentType="image/x-wmf"/>
  <Override PartName="/ppt/media/image24.gif" ContentType="image/gif"/>
  <Override PartName="/ppt/media/image20.wmf" ContentType="image/x-wmf"/>
  <Override PartName="/ppt/media/image21.gif" ContentType="image/gif"/>
  <Override PartName="/ppt/media/image22.wmf" ContentType="image/x-wmf"/>
  <Override PartName="/ppt/media/image25.wmf" ContentType="image/x-wmf"/>
  <Override PartName="/ppt/media/image26.wmf" ContentType="image/x-wmf"/>
  <Override PartName="/ppt/media/image3.jpeg" ContentType="image/jpeg"/>
  <Override PartName="/ppt/media/image2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4EEA-685B-4763-9F05-4E3A248A8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771B-497F-40EE-B150-E7C20D7F7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BE7B-66E6-4445-B6E8-D4FB891AC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5BC6-9A6F-415D-8A77-F28B0368F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2FA8-64F7-443F-97BD-DBD9CDD88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108C-4B2E-4DFE-B61A-0EC5CAA25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C8D9-666D-48C4-AF12-7AF31A3D7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D6F1-7693-4897-A273-B29C03D5E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CF19-2722-4797-B6A4-B97AF8A82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15A7-2D48-4742-9080-D4FD2648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D024-77A5-42FD-9E60-041832BB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F4B0-FE58-4EF6-92F3-35113B77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F659C-A099-4EE6-A46F-42DD89444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package" Target="../embeddings/oleObject1.xlsx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0.wmf"/><Relationship Id="rId4" Type="http://schemas.openxmlformats.org/officeDocument/2006/relationships/image" Target="../media/image21.gif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2.wmf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gif"/><Relationship Id="rId3" Type="http://schemas.openxmlformats.org/officeDocument/2006/relationships/image" Target="../media/image24.gif"/><Relationship Id="rId4" Type="http://schemas.openxmlformats.org/officeDocument/2006/relationships/package" Target="../embeddings/oleObject1.xlsx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6.wmf"/><Relationship Id="rId4" Type="http://schemas.openxmlformats.org/officeDocument/2006/relationships/image" Target="../media/image27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8.wmf"/><Relationship Id="rId4" Type="http://schemas.openxmlformats.org/officeDocument/2006/relationships/image" Target="../media/image29.png"/><Relationship Id="rId5" Type="http://schemas.openxmlformats.org/officeDocument/2006/relationships/image" Target="../media/image30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package" Target="../embeddings/oleObject1.xlsx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9.png"/><Relationship Id="rId4" Type="http://schemas.openxmlformats.org/officeDocument/2006/relationships/image" Target="../media/image10.gif"/><Relationship Id="rId5" Type="http://schemas.openxmlformats.org/officeDocument/2006/relationships/package" Target="../embeddings/oleObject1.xlsx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19280" y="907920"/>
            <a:ext cx="59054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66"/>
                </a:solidFill>
                <a:uFillTx/>
                <a:latin typeface="Arial"/>
              </a:rPr>
              <a:t>Анализ учебно-воспитательной работы в 1 четверти 2009-2010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 rot="10800000">
            <a:off x="178920" y="259920"/>
            <a:ext cx="1187640" cy="1513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979640" y="2708280"/>
            <a:ext cx="5113440" cy="3290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7740720" y="5157720"/>
            <a:ext cx="118728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 rot="20108400">
            <a:off x="8388360" y="6165360"/>
            <a:ext cx="522360" cy="4082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 rot="1379400">
            <a:off x="250560" y="188640"/>
            <a:ext cx="863640" cy="67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" name=""/>
          <p:cNvGraphicFramePr/>
          <p:nvPr/>
        </p:nvGraphicFramePr>
        <p:xfrm>
          <a:off x="142920" y="765000"/>
          <a:ext cx="9001080" cy="52578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2920" y="765000"/>
                    <a:ext cx="900108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0" y="549360"/>
          <a:ext cx="8893080" cy="5545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49360"/>
                    <a:ext cx="889308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324000" y="4797360"/>
            <a:ext cx="772920" cy="1125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7236000" y="4653000"/>
            <a:ext cx="1400040" cy="12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79280" y="476280"/>
          <a:ext cx="8713800" cy="5661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476280"/>
                    <a:ext cx="871380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488360" y="5157720"/>
            <a:ext cx="1655640" cy="15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 rot="2438400">
            <a:off x="178920" y="0"/>
            <a:ext cx="1028880" cy="1143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 rot="20206800">
            <a:off x="7956720" y="115920"/>
            <a:ext cx="102852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"/>
          <p:cNvGraphicFramePr/>
          <p:nvPr/>
        </p:nvGraphicFramePr>
        <p:xfrm>
          <a:off x="0" y="1268280"/>
          <a:ext cx="9144000" cy="49276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1268280"/>
                    <a:ext cx="9144000" cy="49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79280" y="333360"/>
          <a:ext cx="8642520" cy="5256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333360"/>
                    <a:ext cx="864252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451640" y="4797360"/>
            <a:ext cx="14241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79280" y="476280"/>
          <a:ext cx="8785440" cy="5761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476280"/>
                    <a:ext cx="878544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539640" y="5084640"/>
            <a:ext cx="935280" cy="1224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324000" y="260280"/>
            <a:ext cx="9334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24000" y="333360"/>
          <a:ext cx="8424720" cy="5754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333360"/>
                    <a:ext cx="8424720" cy="57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11280" y="6093000"/>
            <a:ext cx="4321080" cy="487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7667640" y="189000"/>
            <a:ext cx="1314360" cy="819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7883640" y="404640"/>
            <a:ext cx="1314360" cy="8193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50920" y="333360"/>
          <a:ext cx="8893080" cy="60753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0920" y="333360"/>
                    <a:ext cx="8893080" cy="60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33"/>
                </a:solidFill>
                <a:latin typeface="Monotype Corsiva"/>
              </a:rPr>
              <a:t>Наполняемость классов в начальной школ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39640" y="1058760"/>
          <a:ext cx="8280360" cy="5656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1058760"/>
                    <a:ext cx="8280360" cy="56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667640" y="189000"/>
            <a:ext cx="1314360" cy="819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7812000" y="5734080"/>
            <a:ext cx="1187640" cy="9525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179280" y="-171360"/>
            <a:ext cx="1008000" cy="87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"/>
          <p:cNvGraphicFramePr/>
          <p:nvPr/>
        </p:nvGraphicFramePr>
        <p:xfrm>
          <a:off x="0" y="0"/>
          <a:ext cx="9325080" cy="63705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9325080" cy="63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79280" y="620640"/>
          <a:ext cx="8748720" cy="4714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620640"/>
                    <a:ext cx="874872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384200" y="3376440"/>
            <a:ext cx="203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32560" y="5392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395280" y="620640"/>
          <a:ext cx="8521560" cy="4592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620640"/>
                    <a:ext cx="8521560" cy="459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6804000" y="5013360"/>
            <a:ext cx="10476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0" y="476280"/>
          <a:ext cx="9144000" cy="5545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476280"/>
                    <a:ext cx="914400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 rot="19538400">
            <a:off x="4716000" y="191592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4762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66"/>
                </a:solidFill>
                <a:latin typeface="Monotype Corsiva"/>
              </a:rPr>
              <a:t>Зеленые друз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14200" y="260280"/>
          <a:ext cx="8929800" cy="6193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4200" y="260280"/>
                    <a:ext cx="8929800" cy="619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09:41:18Z</dcterms:created>
  <dc:creator>User</dc:creator>
  <dc:description/>
  <dc:language>en-US</dc:language>
  <cp:lastModifiedBy>user</cp:lastModifiedBy>
  <dcterms:modified xsi:type="dcterms:W3CDTF">2009-11-10T09:33:28Z</dcterms:modified>
  <cp:revision>13</cp:revision>
  <dc:subject/>
  <dc:title>Слайд 1</dc:title>
</cp:coreProperties>
</file>